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2CD-6898-4C59-99BA-6DD600EE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58A-C6C5-4FAA-9132-87D313D2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E13-4162-444E-B924-7DBE7A67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889-AD65-4B26-A883-067E5EB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22CE-3E7A-4442-95C3-5EAFF21D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30D-0789-43CC-BEDD-687C8FF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AE5F-2FE1-4050-A814-939DCF0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B1E8-75E4-43ED-9020-1577E79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F01B-D09D-428E-AB29-A04F6E23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8866-046F-4DA8-A731-79BE144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787E-79AA-4324-A7A0-6D3DB36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C5D-4F34-43F2-A789-1FDFFFB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F183-5B44-40A6-BFD5-9E50D27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B1E5-EC78-45EE-9B3C-EDCA94A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F2BA-5D90-4B1D-A847-017161CF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7D4-F439-4FA7-9E17-5DEEF1B7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012-9C33-4271-877B-DDDC9D90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490-AA3D-4EFE-BE8B-9329A24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67E-7754-4FE9-B077-A5965AA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FF6-51CC-4A4E-AC54-4546C8B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AF2-A77F-4A29-9FD3-55377ACC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6F5-C7C2-4AFF-B8F9-CF0C75B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143-66D4-498B-8D31-19D3735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2DF-E532-4421-8923-35A62104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F1E-9A2B-4B06-83AC-EA5E69BAEC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457-FE76-481C-BF2B-AB30CFAFEF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hurnul.milt.rissi.ru/" TargetMode="External"/><Relationship Id="rId2" Type="http://schemas.openxmlformats.org/officeDocument/2006/relationships/hyperlink" Target="http://zhurnul.milt.rissi.ru/" TargetMode="External"/><Relationship Id="rId3" Type="http://schemas.openxmlformats.org/officeDocument/2006/relationships/hyperlink" Target="http://zhurnul.milt.rissi.ru/" TargetMode="External"/><Relationship Id="rId4" Type="http://schemas.openxmlformats.org/officeDocument/2006/relationships/hyperlink" Target="http://www.memo.ru/" TargetMode="External"/><Relationship Id="rId5" Type="http://schemas.openxmlformats.org/officeDocument/2006/relationships/hyperlink" Target="http://www.memo.ru/" TargetMode="External"/><Relationship Id="rId6" Type="http://schemas.openxmlformats.org/officeDocument/2006/relationships/hyperlink" Target="http://www.memo.ru/" TargetMode="External"/><Relationship Id="rId7" Type="http://schemas.openxmlformats.org/officeDocument/2006/relationships/hyperlink" Target="http://www.memo.ru/" TargetMode="External"/><Relationship Id="rId8" Type="http://schemas.openxmlformats.org/officeDocument/2006/relationships/hyperlink" Target="http://www.memo.ru/" TargetMode="Externa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1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Составление библиографического описания: библиографическое описание документа, общие требования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Многотомные издания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здание в цел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Гиппиус, З. Н. Сочинения: в 2 т. / З. Н. Гиппиус. – Москва: Лаком-книга: Габестро, 2001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ьный т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ерещагин, Г. Е. Собрание сочинений: в 6 т. Т. 3: Этнографические очерки / Г. Е. Верещагин. – Ижевск, 2000. – 251 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99"/>
                </a:solidFill>
                <a:uFillTx/>
                <a:latin typeface="Times New Roman"/>
              </a:rPr>
              <a:t>Аналитическое описание</a:t>
            </a:r>
            <a:br>
              <a:rPr sz="3600"/>
            </a:br>
            <a:r>
              <a:rPr b="1" lang="en-US" sz="36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666699"/>
                </a:solidFill>
                <a:uFillTx/>
                <a:latin typeface="Times New Roman"/>
              </a:rPr>
              <a:t>Статья из книги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Заглавие книги: сведения, относящиеся  к заглавию. – Место издания, год издания. – Местоположение статьи (страниц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ванов, С.А. Маркетинг и менеджмент  / С.А. Иванов // Статьи о классиках. – Москва, 2002. – С. 12-3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Статья из газеты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Название газеты. – Год выпуска. – Число и месяц выпуска. – Местоположение статьи (страницы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иколаева, С. Будем читать. Глядишь, и кризис пройдет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/ С. Николаева // Северный комсомолец. – 2009. - № 13. – С.  9-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ысев, В. Приоритет – экология / В. Рысев // Волна. – 2010. – 4 марта. – С. 13-1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Статья  из журнала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Название журнала. – Год выпуска. – Номер выпуска. – Местоположение статьи (страницы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арасова, Н.Г. Смена парадигм в развитии теории и практики градостроительства / Н.Г. Тарасова // Архитектура и строительство России. – 2007. - № 4. – С. 2-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азаков, Н.А. Запоздалое признание / Н.А. Казаков // На боевом посту. – 2009. - № 9. – С. 64-6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Раздел, глава из книг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ый, А. И. Введение в законодательство Европейского сообщества / А. И. Малый // Институты Европейского союза : учеб. пособие. – Архангельск, 2002. – Разд. 1. – С. 7-2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Статья из энциклопедии, словаря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андейские войны // Энциклопедический словарь Ф. А. Брокгауза и И. А. Ефрона / сост. Н. И. Новиков. – Санкт-Петербург, 1891. – Т. 5. – С. 486 – 48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Ярцева, В. Н. Английский язык / В. Н. Ярцева // Краткая литературная энциклопедия. – Москва, 1962. – Т. 1. – С. 218 – 21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СТ 7.82 – 2001 «Библиографическая запись. Библиографическое описание электронных ресурсов. Общие требования и правила соста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Схема библиографического описания электронного рес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ое заглави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[Общее обозначение материала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Параллельное заглавие: сведения, относящиеся к заглавию / сведения об ответственности. ― Сведения об издании. ― Место издания:  Издательство, дата издания. ―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словия доступ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6699"/>
                </a:solidFill>
                <a:uFillTx/>
                <a:latin typeface="Times New Roman"/>
              </a:rPr>
              <a:t>Примеры библиографического описания электронных ресурсов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й ресурс локального доступа (C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тор. Заглавие [Электронный ресурс]: сведения, относящиеся к заглавию / сведения об ответственности (авторы); последующие сведения об ответственности (редакторы, переводчики, коллективы). – Место издания: Издательство, Год издания. –– (Сер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99"/>
                </a:solidFill>
                <a:uFillTx/>
                <a:latin typeface="Times New Roman"/>
              </a:rPr>
              <a:t>Электронный ресурс локального доступа (CD)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одников, А.Р. Логистика [Электронный ресурс]: терминологический словарь / А.Р. Родников. –– Москва: ИНФРА-М, 2000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Энциклопедия классической музыки [Электронный ресурс]. – Москва: Комминфо, 2000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и задания к семинарским занятиям по новейшей истории стран Азии и Африки [Электронный ресурс]: пособие для студ. очного отделения ист. фак. / сост. М. В. Змеев; ГГПИ.- Глазов: ГГПИ, 2009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аранин, В. А. Основы квантовой механики [Электронный ресурс]: учеб. пособие / В. А. Саранин. -  Глазов: ГГПИ, 2008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СТ 7.1 – 2003 «Библиографическая запись. Библиографическое описание. Общие требования и правила соста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666699"/>
                </a:solidFill>
                <a:uFillTx/>
                <a:latin typeface="Times New Roman"/>
              </a:rPr>
              <a:t>Электронный ресурс удаленного доступа (Internet)</a:t>
            </a:r>
            <a:endParaRPr b="0" lang="en-US" sz="3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тор. Заглавие [Электронный ресурс]: сведения, относящиеся к заглавию / сведения об ответственности (авторы); последующие сведения об ответственности (редакторы, переводчики, коллективы). –– Место издания: Издательство, Дата издания. – Режим доступа: (URL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6699"/>
                </a:solidFill>
                <a:uFillTx/>
                <a:latin typeface="Times New Roman"/>
              </a:rPr>
              <a:t>Электронный ресурс удаленного доступа (Internet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но в России [Электронный ресурс]: многопредмет. науч. журн. /  Моск. физ.-техн. ин-т. – Долгопрудный: МФТИ, 1998. – режим доступа к журн.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zhurnul.milt.rissi.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нный каталог ГПНТБ России [Электронный ресурс]: база данных содержит сведения о всех видах лит., поступающей в фонд ГПНТБ России. ― Москва, [199―].―Режим доступа: http:/ / www. gpntb. ru/ win/ searcli/ help/ el-cat. htm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принц, Л. Книга художника: от миллионных тиражей – к единичным экземплярам [Электронный ресурс] / Лев Шпринц. –– Москва, 2000. – Режим доступа: http://atbook.km.ru/news/000525.html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одательство и права человека [Электронный ресурс]: документы / При поддержке Фонда Джона Д. и Кэтрин Т. Макартуров. - URL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6"/>
              </a:rPr>
              <a:t>www.memo.ru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7"/>
              </a:rPr>
              <a:t>. 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8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.01.201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6699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Схема библиографического описания документ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700280"/>
            <a:ext cx="8064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головок описания. Основное заглавие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[Общее обозначение материала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араллельное заглавие: сведения, относящиеся к заглави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 Сведения об ответственности. – Сведения об издании. –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Область специфических сведени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– Место издания: Издательство, Дата издания. – Физическая характеристика документа. – (Основное заглавие серии).-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римечани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-24300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6699"/>
                </a:solidFill>
                <a:uFillTx/>
                <a:latin typeface="Times New Roman"/>
              </a:rPr>
              <a:t>Схема аналитического библиографического описания документа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5120" y="2134800"/>
            <a:ext cx="7861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едения о составной части документа // Сведения об идентифицирующем документе. — Сведения о местоположении составной части в документ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Примеры библиографического описания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ниг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втор. Заглавие: сведения, относящиеся к заглавию (см. на титульном листе) / сведения об ответственности (авторы);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оследующие сведения об ответственности (редакторы, переводчики, коллективы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 – Сведения об издании (информация о переиздании, номер издания). – Место издания: Издательство, Год издания. – Объем. 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(Серия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Книга  с 1 автором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Жабина, С.Г. Основы экономики, менеджмента и маркетинга в общественном питании: учеб. пособие / С. Г. Жабина. - Москва: Академия, 2014. - 336 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укаш, Ю.А. Индивидуальный предприниматель без образования юридического лица  / Ю.А. Лукаш.   –Москва: Книжный мир, 2012. – 457 с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Книга с 2 и 3 авторам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лков, М.В. Современная экономика: учеб. для студентов вузов / М.В. Волков, А.В. Сидоров. -  Санкт-Петербург: Питер, 2014.- 155 с.  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ванов, И.И. Современная политика: учеб. пособие / И.И. Иванов, С. И. Петров, В.О. Ковалев. – Москва: Просвещение, 2013. – 552 с. 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Книга  с 4 и более авторам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ая экономика: учебник для вузов / М.В. Коробкин [и др.]. – Санкт-Петербург: Питер, 2014.- 32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соводство: учеб. пособие к курсовому проектированию / З.В. Ерохина [и др.].  –Красноярск: Изд-во СибГТУ, 2008. - 17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гика: учеб. пособие для 10-11 классов / А.Д. Гетманова [и др.]. – Москва: Дрофа, 2005. – 156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Многотомные издания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здание в целом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Автор. Заглавие издания: сведения, относящиеся к заглавию (см. на титульном листе) / Сведения об ответственности (автор). – Город издания: Издательство, Год изда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ьный том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Автор. Заглавие издания: сведения, относящиеся к заглавию (см. на титульном листе). Обозначение и номер тома: Заглавие тома / Сведения об ответственности (автор). – Город издания, год издания тома. – Объем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1:20:26Z</dcterms:created>
  <dc:creator>компьютер 12</dc:creator>
  <dc:description/>
  <dc:language>en-US</dc:language>
  <cp:lastModifiedBy>компьютер 12</cp:lastModifiedBy>
  <dcterms:modified xsi:type="dcterms:W3CDTF">2017-11-02T05:38:34Z</dcterms:modified>
  <cp:revision>13</cp:revision>
  <dc:subject/>
  <dc:title>Составление библиографического описания: библиографическое описание документа, общие требования</dc:title>
</cp:coreProperties>
</file>